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1A1-35FA-4EE0-8726-D57BCB24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33F-DBD4-436C-8D9D-84D62E6D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3A6-2C6C-42CE-A505-C52C6F4A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42E-47BC-41B4-BBA2-F66120F8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E0E3-03B2-4DD2-B774-2DFDC44B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48A2-1915-40DA-8478-74465F6C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38FA-21DC-413C-9A4F-BB4000A1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A4F5-3A2B-4B0A-88CF-EAE59606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79A7-41FF-4137-80A9-A2C2F0DB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57AD-12B5-4F6F-876B-B1ECE338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95DD-B478-4872-8C99-EEECFD53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369-A3E8-44BC-B2B5-3301E091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A02A-216D-474B-9CE6-C84C633E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726F-A6AC-4064-963C-C41BF007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D53D-6272-4CC7-9E2B-56DA20D1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6DF6-30EB-486B-AE79-35BC27B1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2B68-C65E-454E-8C2A-5EF90E4F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143-6F1C-4006-AC39-E26F31A9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575-C59C-42D6-A5C4-271F64AD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E9A-4F0F-483D-AEC0-0F4797E4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E85-D2BB-4EE6-99A1-4EC1E428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861-837F-45CF-A548-7D2E6506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2B7-64D4-4A96-B20A-DD735A25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AB7-3545-4341-B3C2-F8CED343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E8E2-2097-4ECE-8392-70067DD10B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1A8D-5CAC-4377-B2E8-77819BE3516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on nom est: </a:t>
            </a:r>
            <a:br>
              <a:rPr sz="5400"/>
            </a:br>
            <a:r>
              <a:rPr b="0" lang="fr-CA" sz="5400" spc="-1" strike="noStrike">
                <a:solidFill>
                  <a:srgbClr val="ffffcc"/>
                </a:solidFill>
                <a:latin typeface="Tahoma"/>
              </a:rPr>
              <a:t>Marie-Pier Paris-cloutie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uis dans la classe 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ame Geneviè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 mets préféré est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La las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ici mon mets préfér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6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0:35Z</dcterms:created>
  <dc:creator>Marie-Pier</dc:creator>
  <dc:description/>
  <dc:language>en-US</dc:language>
  <cp:lastModifiedBy>Marie-Pier</cp:lastModifiedBy>
  <dcterms:modified xsi:type="dcterms:W3CDTF">2007-11-18T16:54:51Z</dcterms:modified>
  <cp:revision>1</cp:revision>
  <dc:subject/>
  <dc:title>Mon nom est:  Marie-Pier Paris-cloutier</dc:title>
</cp:coreProperties>
</file>